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CD5-CB7B-4CDD-B386-0D6FE45D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CB1-3C30-435F-B2D0-7DEF71D3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E01-FA8E-4B02-BFB8-001C9541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D8A-F0F8-477F-8FC1-59118EE4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051-8252-43E7-A9ED-543F0DF4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F51-72EC-4975-9399-5624813F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624-B07A-4AB3-8E60-8C8ED1D4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A52-D2D9-40F0-8D8F-C987C3B4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4CF-6EBE-49BE-8478-FE814AF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9CC-DE05-4AEC-9538-1041750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922-B8F2-44EA-B023-868AFA86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AA4-01D5-4D81-B617-C3B521FF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F043-1928-4DC9-A8CD-8C0FC1C10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e llamo _________  Clase 801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29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b050"/>
                </a:solidFill>
                <a:latin typeface="Arial"/>
              </a:rPr>
              <a:t>TOMAR </a:t>
            </a:r>
            <a:r>
              <a:rPr b="1" lang="es-ES_tradnl" sz="3200" spc="-1" strike="noStrike" u="sng">
                <a:solidFill>
                  <a:srgbClr val="00b050"/>
                </a:solidFill>
                <a:uFillTx/>
                <a:latin typeface="Arial"/>
              </a:rPr>
              <a:t>QUIZ: REPAS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ropa llevas h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ponde en oraciones compl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compras una camise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Hablas con el empleado en la tie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talla us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anto pa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onde pa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pa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miemb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atlantablackstar.com/wp-content/uploads/2013/05/will-smith-family.jpg"/>
          <p:cNvPicPr/>
          <p:nvPr/>
        </p:nvPicPr>
        <p:blipFill>
          <a:blip r:embed="rId1"/>
          <a:stretch/>
        </p:blipFill>
        <p:spPr>
          <a:xfrm>
            <a:off x="4530600" y="923760"/>
            <a:ext cx="4384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1.gstatic.com/images?q=tbn:ANd9GcSOX3KFw13RLFCTTfAjvUhUApBIPI30xLrZ9hHolvMrmLgkL1dC"/>
          <p:cNvPicPr/>
          <p:nvPr/>
        </p:nvPicPr>
        <p:blipFill>
          <a:blip r:embed="rId1"/>
          <a:stretch/>
        </p:blipFill>
        <p:spPr>
          <a:xfrm>
            <a:off x="571680" y="0"/>
            <a:ext cx="210816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s://encrypted-tbn1.gstatic.com/images?q=tbn:ANd9GcSylOVBrYXEzBaPNslg5hU4cm8aGi7t9g6__v3HJs0cEkpTcDwU"/>
          <p:cNvPicPr/>
          <p:nvPr/>
        </p:nvPicPr>
        <p:blipFill>
          <a:blip r:embed="rId2"/>
          <a:stretch/>
        </p:blipFill>
        <p:spPr>
          <a:xfrm>
            <a:off x="6248520" y="0"/>
            <a:ext cx="207324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914400" y="3800520"/>
            <a:ext cx="162864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4"/>
          <a:stretch/>
        </p:blipFill>
        <p:spPr>
          <a:xfrm>
            <a:off x="6477120" y="3726000"/>
            <a:ext cx="2522520" cy="252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7696080" y="3657600"/>
            <a:ext cx="13384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3206880" y="151776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09480" y="3048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6301080" y="297180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83808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3000" spc="-1" strike="noStrike">
                <a:solidFill>
                  <a:srgbClr val="0033cc"/>
                </a:solidFill>
                <a:latin typeface="Verdana"/>
              </a:rPr>
              <a:t>el hi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6400800" y="6202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3200400" y="3611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h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3276720" y="4602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352680" y="55926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3124080" y="20574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2971800" y="41148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2971800" y="51004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brother/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2895480" y="60958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sib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 familia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mith-Pinke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ros pa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b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b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gem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n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2743200" y="160020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2666880" y="2209680"/>
            <a:ext cx="2667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181480" y="1828800"/>
            <a:ext cx="2438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abu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6400800" y="2286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1981080" y="277344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2133720" y="335268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3048120" y="300204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5105520" y="304812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uncles &amp; a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2514600" y="391644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2590920" y="4525920"/>
            <a:ext cx="3200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5181480" y="422100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pr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7543800" y="43387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cou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3276720" y="5105520"/>
            <a:ext cx="160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t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2362320" y="5638680"/>
            <a:ext cx="32004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2438280" y="6248520"/>
            <a:ext cx="35053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5334120" y="582120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ni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7467480" y="58672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 de Vocabulari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95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the Andres’ family tree with the correct title of the members. (follow the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rbol, ejemplo"/>
          <p:cNvPicPr/>
          <p:nvPr/>
        </p:nvPicPr>
        <p:blipFill>
          <a:blip r:embed="rId1"/>
          <a:stretch/>
        </p:blipFill>
        <p:spPr>
          <a:xfrm>
            <a:off x="2286000" y="1905120"/>
            <a:ext cx="5181480" cy="479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119680" y="5943600"/>
            <a:ext cx="13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Hij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Her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An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276720" y="28954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657600" y="289548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Abue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724280" y="29718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3200400" y="4419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342900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350532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58672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6095880" y="47242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4648320" y="4495680"/>
            <a:ext cx="1218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3962520" y="5867280"/>
            <a:ext cx="1447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1981080" y="472428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5943600" y="45720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3276720" y="419112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486400" y="603396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7010280" y="553068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una hoja aparte, inventa una familia y crea un árbol familiar de la familia. CREATIVIDAD POR FAVO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s 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u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í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rma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8:03:02Z</dcterms:created>
  <dc:creator>Helen Zumaeta</dc:creator>
  <dc:description/>
  <dc:language>en-US</dc:language>
  <cp:lastModifiedBy>Helen Zumaeta</cp:lastModifiedBy>
  <dcterms:modified xsi:type="dcterms:W3CDTF">2014-09-29T19:13:34Z</dcterms:modified>
  <cp:revision>14</cp:revision>
  <dc:subject/>
  <dc:title>Slide 1</dc:title>
</cp:coreProperties>
</file>